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72E5-6C32-4604-96DD-60D470CFA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pointer/mouse to expl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limitation also – single point of at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C6DF-4EFA-419D-804E-D14FC5117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7C3E-E9BA-4674-82F8-8A90AE54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E6FF-6C21-41B6-B90C-5C8ECD8B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EE41-3E03-4E19-A892-690278EBF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B88A-B859-4F7F-A4E8-EC6F46F4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C7AF-8929-4FBA-BDD2-2576DFCA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B3EF-66B6-4DAD-AB06-16365347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AFFE-4671-47A9-9FD5-8EC44810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C8FA-DCE3-44EB-9DEC-6B7E3214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0EE5-5C00-425D-90C6-E9B179B2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2F8C-6550-4573-8CE4-086188D4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163D-56D9-4717-AF86-46DB9B53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5C18-1AA2-405B-B290-042ABA9D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9F3E-80DB-443D-8ADE-771E1268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FEBC-7507-403B-A80C-9CF2513D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BB47-0208-4AA8-8C78-27575D1B5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081C-97AC-4F33-A5EA-F61AB3B29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AE31-A4E0-48E2-B5A4-63653B86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79CC-2DE5-4B0B-B4CF-B332CA0B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81CC-0462-43FF-AF76-868E4269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14C4-5C7F-43D2-AF5C-923A3ACE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9AB4-5AB2-48F2-BD79-1FED441C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F1F3-3E73-4415-8446-4C8E01AB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F240-1974-46E3-8B0F-60F1FB83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E5D3-49B6-4C9A-8F79-CACF7512E24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B61E-DB11-45D8-BD27-C98328422A6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anonym.comp.nus.edu.sg/" TargetMode="External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104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9900"/>
                </a:solidFill>
                <a:latin typeface="Garamond"/>
              </a:rPr>
              <a:t>PRIVÉ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nonymous Location-Based Queries in Distributed Mobile Syste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4876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tional University of Singapo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ghinitag,kalnis}@comp.nus.edu.s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niversity of Peloponnese, Gree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iros@uop.g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80880" y="3276720"/>
          <a:ext cx="8458200" cy="1650960"/>
        </p:xfrm>
        <a:graphic>
          <a:graphicData uri="http://schemas.openxmlformats.org/drawingml/2006/table">
            <a:tbl>
              <a:tblPr/>
              <a:tblGrid>
                <a:gridCol w="4038840"/>
                <a:gridCol w="44193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briel Ghinita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nos Kalnis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i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kiadopoulos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Existing Cloaking Solutions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1219320"/>
            <a:ext cx="83055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dundant Quer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d K-1 redundant que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ives away exact location of us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tentially high overhe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oakP2P </a:t>
            </a:r>
            <a:r>
              <a:rPr b="0" lang="en-US" sz="4400" spc="-1" strike="noStrike" baseline="30000">
                <a:solidFill>
                  <a:srgbClr val="999900"/>
                </a:solidFill>
                <a:latin typeface="Garamond"/>
              </a:rPr>
              <a:t>[Chow06]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d K-1 NN of query sou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urce likely to be closest to ASR cen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ulnerable to “center-of-ASR” att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6340320"/>
            <a:ext cx="861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[Chow06] – Chow et al, A Peer-to-Peer Spatial Cloaking Algorithm for Anonymous Location-based Services, ACM GIS ’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3886200"/>
            <a:ext cx="6019920" cy="2286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46483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65760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4340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67080" y="5257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4876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038480" y="464832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505320" y="4419720"/>
            <a:ext cx="11430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0" y="51055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-A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52880" y="43434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29000" y="5638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638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43200" y="4495680"/>
            <a:ext cx="426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NOT SECURE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7240" y="3048120"/>
            <a:ext cx="838440" cy="64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QuadASR</a:t>
            </a:r>
            <a:r>
              <a:rPr b="0" lang="en-US" sz="4400" spc="-1" strike="noStrike" baseline="30000">
                <a:solidFill>
                  <a:srgbClr val="999900"/>
                </a:solidFill>
                <a:latin typeface="Garamond"/>
              </a:rPr>
              <a:t>[Gru03, Mok06]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d-tree b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ils to preserve anonymity for outli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necessarily large ASR siz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2363760" y="4343400"/>
            <a:ext cx="16765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363760" y="3048120"/>
            <a:ext cx="16765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7240" y="4343400"/>
            <a:ext cx="16765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525680" y="3701880"/>
            <a:ext cx="838080" cy="64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87240" y="3701880"/>
            <a:ext cx="838440" cy="64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25680" y="3048120"/>
            <a:ext cx="838080" cy="64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20760" y="4114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63560" y="365760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058840" y="3429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01640" y="304812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30240" y="4114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77960" y="365760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354480" y="5105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897280" y="4648320"/>
            <a:ext cx="53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7240" y="31240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58800" y="3024360"/>
            <a:ext cx="3381480" cy="264312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7240" y="51814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5486400"/>
            <a:ext cx="411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’s identity is dis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7240" y="3048120"/>
            <a:ext cx="1676520" cy="129528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47242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queries, ASR is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343400" y="373392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any of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queries, ASR is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343400" y="30481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t K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5943600"/>
            <a:ext cx="86104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Gru03] - Gruteser et al, Anonymous Usage of Location-Based Services Through Spatial and Temporal Cloaking, MobiSys 200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Mok06] – Mokbel et al, The New Casper: Query Processing for Location Services without Compromising Privacy, VLDB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3048120"/>
            <a:ext cx="1676520" cy="129528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" y="3701880"/>
            <a:ext cx="1676520" cy="64008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4419720"/>
            <a:ext cx="3276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NOT SECURE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Secure Location</a:t>
            </a:r>
            <a:br>
              <a:rPr sz="5200"/>
            </a:b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Anonymization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5" name=""/>
          <p:cNvSpPr/>
          <p:nvPr/>
        </p:nvSpPr>
        <p:spPr>
          <a:xfrm>
            <a:off x="304920" y="1219320"/>
            <a:ext cx="83055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ciprocit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querying user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ASR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7800" indent="-5778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{set of users enclosed by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7800" indent="-5778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has the reciprocity property i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52560" indent="-495360">
              <a:spcBef>
                <a:spcPts val="601"/>
              </a:spcBef>
              <a:buClr>
                <a:srgbClr val="999900"/>
              </a:buClr>
              <a:buSzPct val="7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|AS| ≥ 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Symbol" charset="2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AS,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A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A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52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2209680" y="4130640"/>
            <a:ext cx="426744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ilbAS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Hilbert space-filling cur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ex users by Hilbert value of lo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ition Hilbert sequence into “K-buckets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1104840" y="4572000"/>
            <a:ext cx="1197000" cy="170964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62520" y="5486400"/>
            <a:ext cx="43434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7239240" cy="29779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3352680" y="4876920"/>
            <a:ext cx="381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00800" y="5943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543800" y="5943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7057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78487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7313760" cy="33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dvantages of hilbAS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uarantees source priva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-ASRs have the “reciprocity” proper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duced ASR s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lbert ordering preserves locality w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-ASR includes exactly K users (in most c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icient ASR assembly and user relo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lanced, annotated index tr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r relocation, ASR assembly i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(log #use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rcRect l="0" t="52181" r="0" b="0"/>
          <a:stretch/>
        </p:blipFill>
        <p:spPr>
          <a:xfrm>
            <a:off x="528480" y="4297320"/>
            <a:ext cx="8145720" cy="22636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ilbASR with Annotated Index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rcRect l="0" t="0" r="0" b="52181"/>
          <a:stretch/>
        </p:blipFill>
        <p:spPr>
          <a:xfrm>
            <a:off x="533520" y="1828800"/>
            <a:ext cx="8145360" cy="226368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6095880" y="16002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=6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48040" y="2147760"/>
            <a:ext cx="533520" cy="2286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33560" y="2787480"/>
            <a:ext cx="658800" cy="2383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3352680"/>
            <a:ext cx="960480" cy="2383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838680" y="4572000"/>
            <a:ext cx="566640" cy="2379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851200" y="5227560"/>
            <a:ext cx="658800" cy="2383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902040" y="5218200"/>
            <a:ext cx="658800" cy="2379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809720" y="5227560"/>
            <a:ext cx="658800" cy="2383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PRIVÉ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4" name=""/>
          <p:cNvSpPr/>
          <p:nvPr/>
        </p:nvSpPr>
        <p:spPr>
          <a:xfrm>
            <a:off x="304920" y="1219320"/>
            <a:ext cx="83055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Location-Based Services (LBS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257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BS us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bile devices with GPS capab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atial database que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N and Range Que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cation server 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trus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92800" y="2284560"/>
            <a:ext cx="3647880" cy="3654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105520" y="1600200"/>
            <a:ext cx="3886200" cy="9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d closest hospital to my present loc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IVÉ Characteristic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2P overlay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embles annotated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tr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erarchical clustering archite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unded cluster size [</a:t>
            </a:r>
            <a:r>
              <a:rPr b="0" lang="el-GR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838080" y="3505320"/>
            <a:ext cx="6829560" cy="32320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5867280" y="6461280"/>
            <a:ext cx="3276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S relocates to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loc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146920" cy="4443120"/>
          </a:xfrm>
          <a:prstGeom prst="rect">
            <a:avLst/>
          </a:prstGeom>
          <a:ln w="0">
            <a:noFill/>
          </a:ln>
        </p:spPr>
      </p:pic>
      <p:cxnSp>
        <p:nvCxnSpPr>
          <p:cNvPr id="321" name=""/>
          <p:cNvCxnSpPr/>
          <p:nvPr/>
        </p:nvCxnSpPr>
        <p:spPr>
          <a:xfrm flipV="1" rot="16200000">
            <a:off x="1676160" y="4952160"/>
            <a:ext cx="2057760" cy="381600"/>
          </a:xfrm>
          <a:prstGeom prst="bentConnector4">
            <a:avLst>
              <a:gd name="adj1" fmla="val -11111"/>
              <a:gd name="adj2" fmla="val 323323"/>
            </a:avLst>
          </a:prstGeom>
          <a:ln w="2556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322" name=""/>
          <p:cNvCxnSpPr/>
          <p:nvPr/>
        </p:nvCxnSpPr>
        <p:spPr>
          <a:xfrm flipH="1" rot="16200000">
            <a:off x="3389760" y="3466800"/>
            <a:ext cx="2520" cy="686520"/>
          </a:xfrm>
          <a:prstGeom prst="bentConnector3">
            <a:avLst>
              <a:gd name="adj1" fmla="val -23600000"/>
            </a:avLst>
          </a:prstGeom>
          <a:ln w="2556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323" name=""/>
          <p:cNvCxnSpPr/>
          <p:nvPr/>
        </p:nvCxnSpPr>
        <p:spPr>
          <a:xfrm rot="5400000">
            <a:off x="4532400" y="5906160"/>
            <a:ext cx="2160" cy="686520"/>
          </a:xfrm>
          <a:prstGeom prst="bentConnector3">
            <a:avLst>
              <a:gd name="adj1" fmla="val 14400000"/>
            </a:avLst>
          </a:prstGeom>
          <a:ln w="25560">
            <a:solidFill>
              <a:srgbClr val="ff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IVÉ Protoco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rs self-organize into clus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unded cluster size [</a:t>
            </a:r>
            <a:r>
              <a:rPr b="0" lang="el-G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uster head handles ope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te replicated at each cluster pe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oin/Depar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ilar to B-tree insert/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lo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ndled bottom-up, restrict propag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-requ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entralized implementation of hilbAS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peration Complexit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457200" y="1600200"/>
          <a:ext cx="8229600" cy="4387680"/>
        </p:xfrm>
        <a:graphic>
          <a:graphicData uri="http://schemas.openxmlformats.org/drawingml/2006/table">
            <a:tbl>
              <a:tblPr/>
              <a:tblGrid>
                <a:gridCol w="2743200"/>
                <a:gridCol w="2438280"/>
                <a:gridCol w="3048120"/>
              </a:tblGrid>
              <a:tr h="99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t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un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in/Depar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g</a:t>
                      </a:r>
                      <a:r>
                        <a:rPr b="0" lang="el-GR" sz="24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g</a:t>
                      </a:r>
                      <a:r>
                        <a:rPr b="0" lang="el-GR" sz="24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 +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o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g</a:t>
                      </a:r>
                      <a:r>
                        <a:rPr b="0" lang="el-GR" sz="24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g</a:t>
                      </a:r>
                      <a:r>
                        <a:rPr b="0" lang="el-GR" sz="24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 +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-requ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g</a:t>
                      </a:r>
                      <a:r>
                        <a:rPr b="0" lang="el-GR" sz="24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 + log</a:t>
                      </a:r>
                      <a:r>
                        <a:rPr b="0" lang="el-GR" sz="24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g</a:t>
                      </a:r>
                      <a:r>
                        <a:rPr b="0" lang="el-GR" sz="24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 + K/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Load Balancin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erarchical archite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herent imbalance in peer l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uster head rotation mechanis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tation triggered by l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cation cost predomin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676520" y="4419720"/>
            <a:ext cx="10731240" cy="21016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010280" y="3809880"/>
            <a:ext cx="5410440" cy="281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066680" y="5181480"/>
            <a:ext cx="8384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ault Toleranc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ft-state mechanis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uster membership periodically upda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very facilitated by state repl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ader election protoc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case of cluster head fail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Experimental Evaluation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6" name=""/>
          <p:cNvSpPr/>
          <p:nvPr/>
        </p:nvSpPr>
        <p:spPr>
          <a:xfrm>
            <a:off x="304920" y="1219320"/>
            <a:ext cx="83055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perimental Setup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n Francisco Bay Area road net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twork-based Generator of Moving Object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 to 10000 us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locities from 18 to 68 km/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iform and skewed query distribu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onymity degree K in the range [10, 160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6340320"/>
            <a:ext cx="86104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* T. Brinkhoff. A Framework for Generating Network-Based Moving Objects. Geoinformatic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6(2):153–180, 200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nonymity Strength (center-of-ASR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755040" cy="48178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 flipH="1">
            <a:off x="2819160" y="2590920"/>
            <a:ext cx="6094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2900160" y="3071160"/>
            <a:ext cx="600480" cy="105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012120" y="3657600"/>
            <a:ext cx="528120" cy="304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899960" y="4881600"/>
            <a:ext cx="105840" cy="600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010400" y="4742640"/>
            <a:ext cx="208800" cy="573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3309480" y="4338360"/>
            <a:ext cx="391680" cy="46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6145560" y="4953960"/>
            <a:ext cx="53280" cy="607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7304400" y="4953240"/>
            <a:ext cx="21600" cy="609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R Siz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172200" cy="48416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3886200" y="15238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oblem Statemen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ries may disclose sensitive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ery through anonymous web surfing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 user location may disclose ident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iangulation of device sig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ly available datab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al surveill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to preserv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query source anonymit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en when exact user locations are kn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Query Efficienc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24852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location Efficienc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65818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Load Balancin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8" name=""/>
          <p:cNvSpPr/>
          <p:nvPr/>
        </p:nvSpPr>
        <p:spPr>
          <a:xfrm>
            <a:off x="1752480" y="5791320"/>
            <a:ext cx="38862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%      20%     40%      60%     80%   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809880" y="6095880"/>
            <a:ext cx="1600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de 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010560" cy="42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clusi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BS Privacy an important concer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isting solutions have no privacy guarante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ntralized approach has limi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or scalability, legal iss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onymization with privacy guarante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lbAS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sion to decentralized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ed scalability and avail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single point-of-attack/fail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ngoing  &amp; Future Wor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ional D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ploy space mapping techniques to achiev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anonymity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divers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outperform existing “state-of-the art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ace/Data Partitioning and Cluste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tial anonym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ress anonymization of trajecto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opposed to point lo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ngoing  &amp; Future Wor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ress anonymization of trajecto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opposed to point lo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rastructure-less scenar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Bibliography on LBS Privac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http://anonym.comp.nus.edu.sg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2895480"/>
            <a:ext cx="530280" cy="5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Bibliograph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Chow06] – Mokbel et al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 Peer-to-Peer Spatial Cloaking Algorithm for Anonymous Location-based Servic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ACM GIS ’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Gru03] - Gruteser et al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nonymous Usage of Location-Based Services Through Spatial and Temporal Cloaking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MobiSys 200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Ged05] – Gedik et al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ocation Privacy in Mobile Systems: A Personalized Anonymization Mode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ICDCS 200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Mok06] – Mokbel et al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The New Casper: Query Processing for Location Services without Compromising Privac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VLDB 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obiH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ndomized ASR assembly techniqu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uses Hilbert orde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R chosen as random K-user sequ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global knowledge requi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at index structure (Chord DH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privacy guarantees for skewed query distribu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still strong anonymity in pract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lution Overview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onymizing Spatial Region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AS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ication probability ≤ 1/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181480" y="2743200"/>
            <a:ext cx="3821400" cy="38289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04920" y="2743200"/>
            <a:ext cx="5181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imize 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uce ASR ex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st ASR assembly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ort user mo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entral Anonymizer Architectu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mediate tier between users and LB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2971800"/>
            <a:ext cx="8325000" cy="2066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3520" y="5486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Bottleneck and single point of attack/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IVÉ Architectu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14664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K-Anonymity</a:t>
            </a:r>
            <a:r>
              <a:rPr b="0" lang="en-US" sz="4400" spc="-1" strike="noStrike" baseline="30000">
                <a:solidFill>
                  <a:srgbClr val="999900"/>
                </a:solidFill>
                <a:latin typeface="Garamond"/>
              </a:rPr>
              <a:t>*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3520" y="2362320"/>
          <a:ext cx="3276360" cy="2743200"/>
        </p:xfrm>
        <a:graphic>
          <a:graphicData uri="http://schemas.openxmlformats.org/drawingml/2006/table">
            <a:tbl>
              <a:tblPr/>
              <a:tblGrid>
                <a:gridCol w="761760"/>
                <a:gridCol w="1143000"/>
                <a:gridCol w="1371600"/>
              </a:tblGrid>
              <a:tr h="4572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p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c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neumo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rit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speps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nchit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304920" y="6340320"/>
            <a:ext cx="861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* L. Sweeney. k-Anonymity: A Model for Protecting Privacy. Int. J. of Uncertainty, Fuzziness and Knowledge-Based Systems, 10(5):557-570, 200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952880" y="2362320"/>
          <a:ext cx="2971800" cy="2743200"/>
        </p:xfrm>
        <a:graphic>
          <a:graphicData uri="http://schemas.openxmlformats.org/drawingml/2006/table">
            <a:tbl>
              <a:tblPr/>
              <a:tblGrid>
                <a:gridCol w="990720"/>
                <a:gridCol w="762120"/>
                <a:gridCol w="1218960"/>
              </a:tblGrid>
              <a:tr h="4572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p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143000" y="5334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a) Micro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5337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b) Voting Registration List (publ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K-Anonymity</a:t>
            </a:r>
            <a:r>
              <a:rPr b="0" lang="en-US" sz="4400" spc="-1" strike="noStrike" baseline="30000">
                <a:solidFill>
                  <a:srgbClr val="999900"/>
                </a:solidFill>
                <a:latin typeface="Garamond"/>
              </a:rPr>
              <a:t>*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3520" y="2362320"/>
          <a:ext cx="3809880" cy="2743200"/>
        </p:xfrm>
        <a:graphic>
          <a:graphicData uri="http://schemas.openxmlformats.org/drawingml/2006/table">
            <a:tbl>
              <a:tblPr/>
              <a:tblGrid>
                <a:gridCol w="761760"/>
                <a:gridCol w="1676520"/>
                <a:gridCol w="1371600"/>
              </a:tblGrid>
              <a:tr h="4572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p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-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-3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c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-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-3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neumo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-4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-4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rit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-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-5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speps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-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-5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nchit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304920" y="6340320"/>
            <a:ext cx="861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* L. Sweeney. k-Anonymity: A Model for Protecting Privacy. Int. J. of Uncertainty, Fuzziness and Knowledge-Based Systems, 10(5):557-570, 200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53370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-anonymous micro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5337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b) Voting Registration List (publ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2895480"/>
            <a:ext cx="152280" cy="609840"/>
          </a:xfrm>
          <a:custGeom>
            <a:avLst/>
            <a:gdLst>
              <a:gd name="textAreaLeft" fmla="*/ 44640 w 152280"/>
              <a:gd name="textAreaRight" fmla="*/ 152640 w 1522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3657600"/>
            <a:ext cx="152280" cy="609480"/>
          </a:xfrm>
          <a:custGeom>
            <a:avLst/>
            <a:gdLst>
              <a:gd name="textAreaLeft" fmla="*/ 44640 w 152280"/>
              <a:gd name="textAreaRight" fmla="*/ 152640 w 1522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4419720"/>
            <a:ext cx="152280" cy="609480"/>
          </a:xfrm>
          <a:custGeom>
            <a:avLst/>
            <a:gdLst>
              <a:gd name="textAreaLeft" fmla="*/ 44640 w 152280"/>
              <a:gd name="textAreaRight" fmla="*/ 152640 w 1522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952880" y="2362320"/>
          <a:ext cx="2971800" cy="2743200"/>
        </p:xfrm>
        <a:graphic>
          <a:graphicData uri="http://schemas.openxmlformats.org/drawingml/2006/table">
            <a:tbl>
              <a:tblPr/>
              <a:tblGrid>
                <a:gridCol w="1001880"/>
                <a:gridCol w="750960"/>
                <a:gridCol w="1218960"/>
              </a:tblGrid>
              <a:tr h="4572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p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181480" y="2819520"/>
            <a:ext cx="1371600" cy="13716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10280" y="2362320"/>
            <a:ext cx="1371600" cy="22860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5105520"/>
            <a:ext cx="2286000" cy="9144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lational and Spatial Anonymit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3821040" cy="3829320"/>
          </a:xfrm>
          <a:prstGeom prst="rect">
            <a:avLst/>
          </a:prstGeom>
          <a:ln w="0">
            <a:noFill/>
          </a:ln>
        </p:spPr>
      </p:pic>
      <p:grpSp>
        <p:nvGrpSpPr>
          <p:cNvPr id="136" name=""/>
          <p:cNvGrpSpPr/>
          <p:nvPr/>
        </p:nvGrpSpPr>
        <p:grpSpPr>
          <a:xfrm>
            <a:off x="5181480" y="2362320"/>
            <a:ext cx="3657600" cy="3657600"/>
            <a:chOff x="5181480" y="2362320"/>
            <a:chExt cx="3657600" cy="3657600"/>
          </a:xfrm>
        </p:grpSpPr>
        <p:grpSp>
          <p:nvGrpSpPr>
            <p:cNvPr id="137" name=""/>
            <p:cNvGrpSpPr/>
            <p:nvPr/>
          </p:nvGrpSpPr>
          <p:grpSpPr>
            <a:xfrm>
              <a:off x="5181480" y="2362320"/>
              <a:ext cx="3657600" cy="457200"/>
              <a:chOff x="5181480" y="2362320"/>
              <a:chExt cx="3657600" cy="457200"/>
            </a:xfrm>
          </p:grpSpPr>
          <p:sp>
            <p:nvSpPr>
              <p:cNvPr id="138" name=""/>
              <p:cNvSpPr/>
              <p:nvPr/>
            </p:nvSpPr>
            <p:spPr>
              <a:xfrm>
                <a:off x="5181480" y="23623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638680" y="23623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095880" y="23623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23623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010280" y="23623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467480" y="23623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924680" y="23623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381880" y="23623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5181480" y="2819520"/>
              <a:ext cx="3657600" cy="457200"/>
              <a:chOff x="5181480" y="2819520"/>
              <a:chExt cx="3657600" cy="457200"/>
            </a:xfrm>
          </p:grpSpPr>
          <p:sp>
            <p:nvSpPr>
              <p:cNvPr id="147" name=""/>
              <p:cNvSpPr/>
              <p:nvPr/>
            </p:nvSpPr>
            <p:spPr>
              <a:xfrm>
                <a:off x="5181480" y="28195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638680" y="28195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095880" y="28195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553080" y="28195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010280" y="28195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467480" y="28195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924680" y="28195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381880" y="28195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5181480" y="3276720"/>
              <a:ext cx="3657600" cy="457200"/>
              <a:chOff x="5181480" y="3276720"/>
              <a:chExt cx="3657600" cy="457200"/>
            </a:xfrm>
          </p:grpSpPr>
          <p:sp>
            <p:nvSpPr>
              <p:cNvPr id="156" name=""/>
              <p:cNvSpPr/>
              <p:nvPr/>
            </p:nvSpPr>
            <p:spPr>
              <a:xfrm>
                <a:off x="5181480" y="32767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38680" y="32767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095880" y="32767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553080" y="32767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010280" y="32767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467480" y="32767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924680" y="32767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381880" y="32767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5181480" y="5105520"/>
              <a:ext cx="3657600" cy="457200"/>
              <a:chOff x="5181480" y="5105520"/>
              <a:chExt cx="3657600" cy="457200"/>
            </a:xfrm>
          </p:grpSpPr>
          <p:sp>
            <p:nvSpPr>
              <p:cNvPr id="165" name=""/>
              <p:cNvSpPr/>
              <p:nvPr/>
            </p:nvSpPr>
            <p:spPr>
              <a:xfrm>
                <a:off x="5181480" y="51055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638680" y="51055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095880" y="51055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553080" y="51055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010280" y="51055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467480" y="51055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924680" y="51055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381880" y="51055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5181480" y="3733920"/>
              <a:ext cx="3657600" cy="457200"/>
              <a:chOff x="5181480" y="3733920"/>
              <a:chExt cx="36576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5181480" y="37339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638680" y="37339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095880" y="37339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553080" y="37339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010280" y="37339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467480" y="37339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924680" y="37339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381880" y="37339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181480" y="4648320"/>
              <a:ext cx="3657600" cy="457200"/>
              <a:chOff x="5181480" y="4648320"/>
              <a:chExt cx="3657600" cy="457200"/>
            </a:xfrm>
          </p:grpSpPr>
          <p:sp>
            <p:nvSpPr>
              <p:cNvPr id="183" name=""/>
              <p:cNvSpPr/>
              <p:nvPr/>
            </p:nvSpPr>
            <p:spPr>
              <a:xfrm>
                <a:off x="5181480" y="46483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638680" y="46483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095880" y="46483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553080" y="46483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010280" y="46483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467480" y="46483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924680" y="46483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381880" y="46483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181480" y="5562720"/>
              <a:ext cx="3657600" cy="457200"/>
              <a:chOff x="5181480" y="5562720"/>
              <a:chExt cx="3657600" cy="457200"/>
            </a:xfrm>
          </p:grpSpPr>
          <p:sp>
            <p:nvSpPr>
              <p:cNvPr id="192" name=""/>
              <p:cNvSpPr/>
              <p:nvPr/>
            </p:nvSpPr>
            <p:spPr>
              <a:xfrm>
                <a:off x="5181480" y="55627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638680" y="55627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095880" y="55627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553080" y="55627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010280" y="55627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467480" y="55627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924680" y="55627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381880" y="55627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5181480" y="4191120"/>
              <a:ext cx="3657600" cy="457200"/>
              <a:chOff x="5181480" y="4191120"/>
              <a:chExt cx="3657600" cy="457200"/>
            </a:xfrm>
          </p:grpSpPr>
          <p:sp>
            <p:nvSpPr>
              <p:cNvPr id="201" name=""/>
              <p:cNvSpPr/>
              <p:nvPr/>
            </p:nvSpPr>
            <p:spPr>
              <a:xfrm>
                <a:off x="5181480" y="41911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638680" y="41911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095880" y="41911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553080" y="41911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010280" y="41911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7480" y="41911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924680" y="41911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381880" y="41911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9" name=""/>
          <p:cNvGrpSpPr/>
          <p:nvPr/>
        </p:nvGrpSpPr>
        <p:grpSpPr>
          <a:xfrm>
            <a:off x="5181480" y="1905120"/>
            <a:ext cx="3733920" cy="398880"/>
            <a:chOff x="5181480" y="1905120"/>
            <a:chExt cx="3733920" cy="398880"/>
          </a:xfrm>
        </p:grpSpPr>
        <p:sp>
          <p:nvSpPr>
            <p:cNvPr id="210" name=""/>
            <p:cNvSpPr/>
            <p:nvPr/>
          </p:nvSpPr>
          <p:spPr>
            <a:xfrm>
              <a:off x="5181480" y="19051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638680" y="19051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95880" y="19051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553080" y="19051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010280" y="19051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67480" y="19051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24680" y="19051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81880" y="19051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4572000" y="2362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28195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76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0" y="37339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0" y="4191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4648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5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51055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5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34120" y="2971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3886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162920" y="2514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077320" y="4343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05720" y="5257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534520" y="5715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343400" y="1905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800600" y="1600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4800600" y="198072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NUS</cp:lastModifiedBy>
  <dcterms:modified xsi:type="dcterms:W3CDTF">2007-10-09T04:05:00Z</dcterms:modified>
  <cp:revision>2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